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53795-C027-4A26-80A8-BC75C4023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00BC8-A8CA-42BD-A56C-92CB84E3A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A77AC-5F77-4D98-9A4F-F22F315EB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7F098-0A04-4EE6-9CBB-DA68CC6F6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5219C-086C-41F7-A8B1-0268A6D2B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80E88-708A-4388-A18D-9E814793F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00021-65A3-4BF9-ACC2-743178BF3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6CA5F-41C5-45A1-B86D-A98BA66F4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184E3-A64E-49DC-B58E-5EF945E6E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4D23E-40EB-48B3-B979-3C67B434F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58CD3-0EBD-4FC2-BDCC-4A61C541D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13911-8913-4D74-BF9A-B9AC665A1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9D311-F445-4514-98E4-228300DC46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50000">
              <a:srgbClr val="3399ff"/>
            </a:gs>
            <a:gs pos="100000">
              <a:srgbClr val="00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quistadors and Pre-Columbian Civiliz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: Rach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nda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2 Identify the three major pre-Columbian civilizations that existed in Central and South America (Maya, Aztec, and Inca) and their locations. Describe their political structures, religious practices, and use of slav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4 Explain why the Aztec and Inca civilizations declined in the 16th centur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 the encounters between Cortez and Montezu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. the encounters between Pizarro and the In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. the goals of the Spanish conquistad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. the effects of European diseases, particularly smallpox, throughout the Western hemisphe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zte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lived in Central Mexico-Valley of Mex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apital of Central of Mexico is  Tenochtit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lytheistic which means  they believed in many g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Controlled many other tribes, villages and forced them for there money and “tribut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decreased by small pox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711680" y="1447920"/>
            <a:ext cx="4084560" cy="48765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410080" y="6247800"/>
            <a:ext cx="172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blic.asu.ed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y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y lived in Mexican coast- of the Yucatan Peninsu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ir Religion did not contain as much g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just one major city- was much har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y were polytheistic (believed in many god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y Had slaves, who could sometimes gain there freed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648320" y="16765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648320" y="1676520"/>
            <a:ext cx="4038480" cy="44956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5257800" y="6323760"/>
            <a:ext cx="245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bspace.utexas.ed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ca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Inca civilization lives in they Andes Mts., Per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 capital is  Cuz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y were polytheistic which means they believed in many go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y Practiced animal sacrif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y had No written language, but had spoken language (used knots as messag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72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5410080" y="632376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tsimages.co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rte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403884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ztecs and their leader Montezuma, welcomed Cortez thinking he was Quetzacoat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tzacoatl was a god to the Aztecs because they are polytheistic and the believed and many gods Quetzacoatl was a pale skinned god and promised the Aztecs he would return someday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tez took Montezuma hostage and Montezuma was killed in the civil war that was follow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tez traveled with 500 to almost 700  men and 16 horses to take over the Aztecs peop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ztecs were surprised to see Cortez and his men and the horses since they had never seen horses befor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ztecs thought that the men and the horse was one creatur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ivil war is a battle between two or more groups in the same coun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girl named Malintzin helped translate for Corte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tez told his men “ We are waging a just and good war which will give us fame ….. If you do not abandon me I shall not abandon you , I shall make you the richest men who ever crossed the sea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 he found a seattlement of Veracruz to make turning back impossibl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26668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5029200" y="6247800"/>
            <a:ext cx="292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bertencyclopaedia.co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4648320" y="4267080"/>
            <a:ext cx="407664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50000">
              <a:srgbClr val="0047ff"/>
            </a:gs>
            <a:gs pos="100000">
              <a:srgbClr val="00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zarr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izarro traveled with 180 men and 27 horses to Peru to take over the Inca people and civiliz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Inca civilization was very large it had around 20 million people and it  covered a huge amount of land of the west coast of South Americ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izarro  was successful  conquering the Inca Civilization because he captured Atahualpa and held him for ranso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id the Spanish Explorers and the Conquistadors change Central and South America forever ? ( Where did you see the lasting effect of these Conquistadors even in 2011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nquistadors and Spanish Explorers changed all their heritage and language. And now the speak Spanish  and the are now the conquistadors relig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also changed there religion and the tradition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5T14:24:47Z</dcterms:created>
  <dc:creator>jklib</dc:creator>
  <dc:description/>
  <dc:language>en-US</dc:language>
  <cp:lastModifiedBy>jklib</cp:lastModifiedBy>
  <dcterms:modified xsi:type="dcterms:W3CDTF">2011-11-29T14:41:47Z</dcterms:modified>
  <cp:revision>5</cp:revision>
  <dc:subject/>
  <dc:title>Slide 1</dc:title>
</cp:coreProperties>
</file>